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A96F5-A924-4246-8922-A9D0D4FC1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F37C-BF55-4991-8D18-23EC9EB2B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ECFEB-9664-4967-82FB-82F4B370F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6CE7C-CE80-48E2-8DC0-FFB304A94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C699D-ABB8-4419-9A72-CE7C9014B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DCA3C-6DD5-4B72-9E6A-5F89F220C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0EAE2-EBF8-487E-961B-599BA4E55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792BB-B64C-4101-ABC1-A30DB600A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F7C4B3-0CAC-4401-AC99-B0BC3C2AD0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748437-B6CB-43A0-84C9-C19D67488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E81A68-86A4-4FF4-921E-4B647DDF47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393F46-D21B-40BA-BA71-D4CC14D930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F2230-94B9-45FD-8048-BB9D0401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FC25B8-B9BB-4BC9-8C78-EA74B2E6DE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F6B851-9003-4186-A3D2-94D336304D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BB4933-30A9-410E-8836-D6F35E7DBC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26702A-DD7E-4744-BEB0-8524CC3978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191984-CC8F-4FDE-8285-0CE3159C78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93792E-6B97-43D6-A824-0C3C88EC9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0611F-E99F-42E4-835D-FA04E7913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926F53-C032-419D-BFAA-B89A44ECC4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8895EC-9E63-45AF-8BCA-C955B22174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4198C9-B93C-413A-B3C5-D199C2AD27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E650A-FBE4-4709-A6D6-B67C3DB0F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907FE0-49BD-46BE-AD56-2781A14FA6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564973-FA6D-4452-A9EF-BE8D929C89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60B383-E509-4F6C-AD28-5B87BE8C7E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A05503-8FD9-47DC-B9D9-F874C8D0E3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98719B-5EC7-4CA0-AB99-2FFEF14D17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2B0AD7-EB0C-45D2-AA65-D313D82FA3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D43AB6-8098-4056-8E3E-FEA018436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6A45A6-E068-465C-8F19-290B58079A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C96C5F-30EB-4089-822F-33B1ACFBC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45E929-795E-4C99-88E7-9B90DBF199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24CD9-D11D-489E-9B38-2B1F8AD91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565AEB-C09A-46A4-816E-6582EC46F1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FCD24B-B708-4856-9BE3-12BD8EF528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C51160-6BBC-441F-8F19-FAF1BF85CD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86DA30-F5AF-408E-BA12-D5893B3EF9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21DC24-4CC7-44C8-B44E-AF314850DB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A7738-1463-4747-B248-1BFEDD202A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450928-AF25-41D4-8A2F-ADB37FB966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487828-C9CF-4435-89C0-BF672D022E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4D28BE-0C33-4D3C-9835-FA92C1A7BC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0602B4-B56D-4036-8554-9C243BAE01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8B7DE-6C39-4DDC-B833-A8E0B935C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AA6E6F-DC80-433A-AA9C-FD7F7D9EF5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05B063-E552-45C2-AA32-B79A6FA639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A32425-15EB-4BB4-8CE1-6032A85A00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F19B95-A367-4878-B877-8A13D50AD0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CB4828-DB65-4045-8D40-4EE551BD99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41A5C0-BCCA-40B1-89F4-56730CBBF4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C94D21-BF6D-4562-9A4E-C3F19410A1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9F4110-15B8-4084-B16F-C761F92BB3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E18CD5-FD93-4B7A-8D34-33AA7D1659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4D0A5E-5468-4D17-8437-AEEC5A3D95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692E7-FDEF-419B-8D3B-01661F27A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894CD8-E199-47BA-A702-42CFC48729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45DFFC-7132-4EC8-9A21-9F79AD8BD8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43BE19-531C-4B5A-B3F1-9907F6F307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76BFDA-085B-45E4-BE3F-85C1450FDF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0BFFBA-EFB3-423A-8D0D-F15A814B35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D99348-1ADD-4D8D-BA0F-FF021C2A657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4660E2-372D-49B3-AC2A-722AD8C399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3A5C07-BB06-42DA-8811-9764C965E04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298A1E-D888-458E-9D5F-63677167FE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CED98D-8F1E-4DF7-8B98-D655D2563D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42ED6-78EC-44E1-839E-9594B5AA0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67CD18-487C-4AD6-B904-97937116C2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B7C696-FC68-4D79-B879-7A3AD20381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C81DB2-4A56-4CF2-9026-8B0A030E0B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6EEABC-ACD9-46B4-BCE5-9E44673503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0FC736-0A85-4186-9971-2E2B61B193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8DEC69-B3A4-4416-B925-EA354CAF1D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5D33C6-32E4-48DA-8ADB-61A1693A2C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80BAF5-3A45-40D5-B6B3-13C8530C82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B274E7-8122-40CD-A83D-2A3EACEE35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94310668-709D-4D7D-B24D-61D327E9DF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F901A-ECF2-4B74-8294-2DF2BBCE1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1989EE58-FF3B-465C-8266-F7C44BE63F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3879972A-3721-4C6A-A682-13D7B47B46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8D5D833C-CCD0-4D11-B98D-087C82D99A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6D1E519A-94C0-4544-9269-06C837E41C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A65DDC6B-2615-47EE-9C5F-837EDF5E6A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D77D5CBD-9F9F-42A2-A49D-D53C0B2E7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068DFD7E-F8BE-4772-9C3B-E51A43337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7383228D-ED83-4DFF-A9CA-CEAB7A49A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9ECE1569-242D-4854-B798-5F26C33A3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6D7A341E-23A8-4F5C-AF68-5DC670CEF5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2FD99-BC41-4E91-86B9-D26483A7F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D045866B-F283-42AB-958C-C59ADCE0A3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9D0015-1D56-496F-8F1E-A8A69222C18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4AB5B3-F341-474D-8534-24E672D887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DBCCF3-5C65-4F22-A96D-B576C746BF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E72076-61E2-4703-83FB-F78FB9F611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42DF88-0745-4A26-A97A-8DCA489654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4D0301-5EF9-4CEA-84D3-8CEA107B80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0836B1-C78F-4AED-B682-05B6DE2007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91B63B-C4BF-4EE1-BC56-4961A0C749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62A36B-92EC-4915-8B07-5B78B81CD2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D6127-49CA-474D-9AE5-8D7FBFF5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4631C1-2039-4773-A15B-90DF60B147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91B207C-9EB2-401E-8E88-23B4D5A87CE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463EC4-3AD3-402E-9646-3C87819AACF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4AF4D25-5428-42F0-90E0-E98FDB5B5A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39517A-82B8-4AD2-A279-4A1C4D7B38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4E0F58-17DE-4F53-8AEC-3A1421B210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76039A-7D29-441A-AE42-74F15F647D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15840D8-EC0C-4B42-BF1E-E109AAA0EB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AF03A7-9EFE-4B49-8B91-77608D23FF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5ABB23-BA1D-40BE-A2D8-9310F65C1C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D552-D1BE-4847-9F89-8C8D09CC2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06D17-4F58-4AFB-AF2A-B9551B41F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14B950-15CA-445C-95FB-ED30B990F1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049C52-7DC2-438C-8AE5-8C5C17CBCB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915819-8E28-4E11-A428-C9296F3A86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27839B6-DCAC-439C-9618-88FCEE59926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E75B7F2-6C82-42B9-8BD6-03C62B9318B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4DAA362-5687-4EE0-903B-CB27AE5907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C35F1DB-2D8E-46C1-9527-876482E76B3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40DE32-2353-4B90-8704-AC526CA17C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8EFE4F-D4A5-483E-89AC-1CEA1C5FA6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0C2CF83-BA6B-484D-BA9D-3031939577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67181-76D2-412C-B07D-3A496D6E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31D2804-8092-4C0C-8E41-CE2CEC99CE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FA9166-184D-4A2D-AEDC-BA44691810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DC21F3-B685-4810-89B1-023CE9DCAF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614162-633C-45BD-BB85-644E52E8889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3D13CB-1209-45A6-9CDC-A72AE764E2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623C98A-6078-43E5-8B3B-8B2AF48975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78F034D-B2A4-4D62-A067-B3B5EFAE711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D347501-CD77-41D9-A60D-B1586292EC4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3C86F1-E9C4-4121-A7BB-1FDF022AE8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49AFFE6-C54C-4B82-A73C-4D4D9BEBBC1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9775-2FA4-4B63-B29D-65D6999DA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2DA253-9F0A-43C0-A80D-546719EBF8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B93D4EB-FCD1-4470-95BF-B613D53CED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F7FD731-B94B-4304-A910-6E78DB4FC7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E362E5-5B32-4CB0-A209-514757A178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E219FF-D4CE-42EC-A293-B598667A4F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4EE43F-C439-4AE1-B5FD-2B71C5A237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11E0E6-CEB3-4014-8C44-BE7CEA0E4A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4967272-403B-413B-B4C9-213AFA72374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58776C-A49C-4772-9517-B12B9151CF3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2DE4CBF-7B1E-47BF-ADDB-64602431BBD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03950-B923-4BC7-91BE-E01D92996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E6F07DB-52CD-49CF-8652-1A7E34154E7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C7B363-52C0-412C-BF4A-FFB20D05496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3DEA7C-FB36-4C8C-A7DE-63CFE040000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6DFF25-63C2-48E7-A11F-BC9CD6C38C8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92439F-F2E7-4598-8F63-7E99A7AB30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0B874D-5073-4CCE-8882-F050CA0940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9F73A5-5FA2-4ED8-82AA-99D088CE3A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10AB3F-27D3-4E58-9FE5-B268B00B7D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9806948-9D14-45BC-A359-10B7E9DC27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66D104D-1CF9-4225-960A-975829B917F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BD13E-F4E6-4D0C-BAF7-4D85ED92B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9294B4D-9F70-494B-8552-E5555EDC8D3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43D7FEC-5B00-4B1E-9B32-4F3BC4D63FB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A50C219-CE49-4C72-ACCE-B0B466BB455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F934B9B-B52D-45B9-9009-4124C0FD7B1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6FF28A-FCE6-4C73-A24F-0A4FBA6DD81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CAC0A6-856F-45B3-9014-97CCBBC8648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89D92A-78EE-466A-AC8E-0D338506485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528406-E1BC-4E99-BC0E-E1FF3D4515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B726C1-D72C-48C6-AF18-0332ABD065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F017B0B-E59B-434C-B03F-2945E00AFD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994392-1766-4AB7-860F-52C5BA1B0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C7E6BF1-D362-4902-9C2C-159F80D684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C486704-D13E-456C-9E8E-0256F490FCD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DEF2AD3-8F1F-4B9A-9134-F6E52A2D688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B96EBDC-2B2C-43B2-A7AC-BE9ACBEDEDB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CD1C01D-337E-47A5-9F47-DC2BA6F99C5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50A095-9018-4F2E-9B29-80545EA6F9F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4830EA-EBC6-4735-A0E0-9FFE54A7086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34943AE-5BE9-4B48-9955-F5BBA5282E3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E83D070-4B66-40F8-93E4-F05B2FB8634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D0ED5E-6ABA-4FD1-A2ED-D46A3D4FC42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6997A-7CC3-4B29-8194-418A985D2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D3F214-5297-481E-B96C-0887D0FFC4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7960CD-1FCC-4C89-9BBD-3E24A771B0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C5FA9D7-2A86-4ADC-9509-43B59AD4C60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9BCD310-5229-4795-BB75-57176552E2D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7093D16-814A-432A-A7BB-959A553FF1C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A8B38-D1DE-48AE-B072-7DBF0F8EA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877F2-6E3A-40FE-B30B-191D50FD3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D6BD3-4E2F-458E-BB4A-0E939A3F2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0E730-3DA4-440B-AE07-AE158FDA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2BA9D-97E5-4255-A3B4-AABA168F7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36E80-0897-4CA8-BCFF-895019165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D47E7-41BC-4ABD-B640-2AED6FF83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77FA2-8259-4077-9DBE-4EE02A3AC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DA9E7-2F17-4084-BDA5-AE2840057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A087F-4D03-4A27-BAFA-F1F1316182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65C19-3636-46BA-B1DD-F2F55F5EBF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4647E7-7DE6-421D-9966-ED3109ED60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B044A4-F07F-48D3-B317-E38CB830D6C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A969AD-FDAA-4688-8DA4-EA426AB041F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3DC24-1B03-4BE9-A45B-7748F199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84CDDB-86B3-404B-9D28-596383C94E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DBF52E-416C-4EDA-9CD3-747085C10E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712BEF-FC97-4F8F-A0B0-68441F68D2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2F1653-E70B-400C-8825-AA96EC6909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5C9DFB-07A2-4444-AD95-8CA0730756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7CA823-99E4-4BCD-A8F7-19504F0A00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BD8ED4-8662-4903-907D-D9DDF5A16A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3BBFB9-B9EF-4322-B0E7-B25742A6C97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450D6C-1A51-497F-8FC6-534AC04FD7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BE33B27-6C14-41D1-87D2-90CDB90D34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B6382-2D16-48F4-9019-EB311A30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084877-DB8D-480F-A6EC-414DE59F1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2076BB-382A-49EA-9C83-E202C7C24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BAEE85-5635-4505-880E-5FD3D8658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C27AC8-D0A0-4DEC-8BC5-251363393B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133881-05F2-4F51-90F7-3022DA6A3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439495-5BEE-4BCA-919D-F4B46B5E9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4C0195-11C3-4FF1-BD6C-8EDDB3F1E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030DE0-ABD6-4A29-9B2C-C573F224E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E83351-BC06-4123-824D-0D0C4C8778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BFBFEB-88E2-4F15-894C-A10E3E79E8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69B0-A1C3-4282-9B3A-1C90A95A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060BC3-6CDC-4E41-8D9D-E2915AD90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F89DE0-A04A-455A-AE00-685CA8CF42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0200F-D407-41DC-8DC8-1FA6424FA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8F9CC-E24B-4989-AF08-49E8EEED6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9D7CE-641C-495F-A3D1-EA700E480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87B07-4662-44C3-8401-14ADE2847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E2DDA-D350-4280-8349-7AC7BF8C0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74B17-2126-4D5C-B0B6-2A7B98BF2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1C1F0-2BC3-473E-B9BD-6A8544302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BE079-5F52-4053-9282-C6C10F34D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1902-D630-4D6B-9AD6-7F8B3BD8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4650F-B5AB-4DE5-BF71-CACDA07F8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36FDA4-61BA-4165-9C85-718072D15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3AA6AC-333C-4064-ACA4-003F331829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32D7E6-96D1-462E-9ED2-335CF9DED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3716E-7DA9-4883-96D2-B10984F23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AEF6A-1426-4301-B122-48D995DB15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C52F8-B278-4DA8-9101-18C7911CB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57239-BB8E-45BE-BF95-CD5E73939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43E377-8E43-4951-BB39-880CB8D14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6ED49-1F92-4C94-BDFF-AFABF08A9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454C-610F-414F-AC4E-1099B4766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6AC32-A9F7-4E37-B29D-2294F8509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D48EEB-ADAC-4FDB-B6AC-E30A817C0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DE019-75D5-4085-AED3-99CC2467E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9A005-52D3-43B8-9E44-5DC6E15EAD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7A9724-6611-4FEC-A394-C5F2E13FBF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280AF-B4CB-4F98-897F-4CB2DDA5C5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4A449-BC46-4B4C-98D4-02CEA9626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BF055-270D-453B-A277-0D6C13AFD5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B0554-90A1-4DB7-905B-4BA5D2D64B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C1372-8FCC-4DCE-A7DF-BCCE059C7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2F0A-6CCA-4D89-B2E6-0B348E951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CB01CB-6A98-4496-989E-6DD63C6D72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E4D9B-4BD4-473E-8ADC-F80E301C5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B3CC8-745D-4204-A746-AF832630D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DCF9A-4497-41B1-8E26-149586FF0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C6744-37E8-4237-9B2A-4389168E31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FE40B9-F48A-474F-A6F3-A8D6F66436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4A2836-1D3F-48D9-B1DC-351857825A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1BACB6-0CF4-45CE-AE0C-8E6380EC60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44AEA-225D-43BD-9E3D-0D7B900DB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A3EF28-49C2-4DCE-A809-0BCAD63736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9.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3CED-789B-4BAA-A2E8-389B98ECC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3" name=""/>
          <p:cNvGrpSpPr/>
          <p:nvPr/>
        </p:nvGrpSpPr>
        <p:grpSpPr>
          <a:xfrm>
            <a:off x="0" y="0"/>
            <a:ext cx="9144000" cy="6856560"/>
            <a:chOff x="0" y="0"/>
            <a:chExt cx="9144000" cy="6856560"/>
          </a:xfrm>
        </p:grpSpPr>
        <p:sp>
          <p:nvSpPr>
            <p:cNvPr id="4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0" name=""/>
            <p:cNvGrpSpPr/>
            <p:nvPr/>
          </p:nvGrpSpPr>
          <p:grpSpPr>
            <a:xfrm>
              <a:off x="0" y="2590920"/>
              <a:ext cx="9140760" cy="2949480"/>
              <a:chOff x="0" y="2590920"/>
              <a:chExt cx="9140760" cy="2949480"/>
            </a:xfrm>
          </p:grpSpPr>
          <p:sp>
            <p:nvSpPr>
              <p:cNvPr id="4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4CFF-E2BC-4876-866C-253FAEFF7C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4" name=""/>
          <p:cNvGrpSpPr/>
          <p:nvPr/>
        </p:nvGrpSpPr>
        <p:grpSpPr>
          <a:xfrm>
            <a:off x="3240" y="4267080"/>
            <a:ext cx="9140760" cy="2590920"/>
            <a:chOff x="3240" y="4267080"/>
            <a:chExt cx="9140760" cy="2590920"/>
          </a:xfrm>
        </p:grpSpPr>
        <p:sp>
          <p:nvSpPr>
            <p:cNvPr id="53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6" name=""/>
            <p:cNvGrpSpPr/>
            <p:nvPr/>
          </p:nvGrpSpPr>
          <p:grpSpPr>
            <a:xfrm>
              <a:off x="5600880" y="5897520"/>
              <a:ext cx="1256760" cy="827280"/>
              <a:chOff x="5600880" y="5897520"/>
              <a:chExt cx="1256760" cy="827280"/>
            </a:xfrm>
          </p:grpSpPr>
          <p:sp>
            <p:nvSpPr>
              <p:cNvPr id="53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8" name=""/>
            <p:cNvGrpSpPr/>
            <p:nvPr/>
          </p:nvGrpSpPr>
          <p:grpSpPr>
            <a:xfrm>
              <a:off x="2819520" y="5764320"/>
              <a:ext cx="2581200" cy="1084320"/>
              <a:chOff x="2819520" y="5764320"/>
              <a:chExt cx="2581200" cy="1084320"/>
            </a:xfrm>
          </p:grpSpPr>
          <p:sp>
            <p:nvSpPr>
              <p:cNvPr id="54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7" name=""/>
            <p:cNvGrpSpPr/>
            <p:nvPr/>
          </p:nvGrpSpPr>
          <p:grpSpPr>
            <a:xfrm>
              <a:off x="6553080" y="5334120"/>
              <a:ext cx="2144880" cy="1303200"/>
              <a:chOff x="6553080" y="5334120"/>
              <a:chExt cx="2144880" cy="1303200"/>
            </a:xfrm>
          </p:grpSpPr>
          <p:sp>
            <p:nvSpPr>
              <p:cNvPr id="56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5" name=""/>
            <p:cNvGrpSpPr/>
            <p:nvPr/>
          </p:nvGrpSpPr>
          <p:grpSpPr>
            <a:xfrm>
              <a:off x="8381880" y="4800600"/>
              <a:ext cx="674640" cy="409680"/>
              <a:chOff x="8381880" y="4800600"/>
              <a:chExt cx="674640" cy="409680"/>
            </a:xfrm>
          </p:grpSpPr>
          <p:sp>
            <p:nvSpPr>
              <p:cNvPr id="58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9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3" name=""/>
              <p:cNvGrpSpPr/>
              <p:nvPr/>
            </p:nvGrpSpPr>
            <p:grpSpPr>
              <a:xfrm>
                <a:off x="8542440" y="4897440"/>
                <a:ext cx="360360" cy="209520"/>
                <a:chOff x="8542440" y="4897440"/>
                <a:chExt cx="360360" cy="209520"/>
              </a:xfrm>
            </p:grpSpPr>
            <p:sp>
              <p:nvSpPr>
                <p:cNvPr id="59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9DF3-996B-447C-95E2-3DC7E4F87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9" name=""/>
          <p:cNvGrpSpPr/>
          <p:nvPr/>
        </p:nvGrpSpPr>
        <p:grpSpPr>
          <a:xfrm>
            <a:off x="3240" y="4267080"/>
            <a:ext cx="9140760" cy="2590920"/>
            <a:chOff x="3240" y="4267080"/>
            <a:chExt cx="9140760" cy="2590920"/>
          </a:xfrm>
        </p:grpSpPr>
        <p:sp>
          <p:nvSpPr>
            <p:cNvPr id="64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1" name=""/>
            <p:cNvGrpSpPr/>
            <p:nvPr/>
          </p:nvGrpSpPr>
          <p:grpSpPr>
            <a:xfrm>
              <a:off x="5600880" y="5897520"/>
              <a:ext cx="1256760" cy="827280"/>
              <a:chOff x="5600880" y="5897520"/>
              <a:chExt cx="1256760" cy="827280"/>
            </a:xfrm>
          </p:grpSpPr>
          <p:sp>
            <p:nvSpPr>
              <p:cNvPr id="64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3" name=""/>
            <p:cNvGrpSpPr/>
            <p:nvPr/>
          </p:nvGrpSpPr>
          <p:grpSpPr>
            <a:xfrm>
              <a:off x="2819520" y="5764320"/>
              <a:ext cx="2581200" cy="1084320"/>
              <a:chOff x="2819520" y="5764320"/>
              <a:chExt cx="2581200" cy="1084320"/>
            </a:xfrm>
          </p:grpSpPr>
          <p:sp>
            <p:nvSpPr>
              <p:cNvPr id="65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2" name=""/>
            <p:cNvGrpSpPr/>
            <p:nvPr/>
          </p:nvGrpSpPr>
          <p:grpSpPr>
            <a:xfrm>
              <a:off x="6553080" y="5334120"/>
              <a:ext cx="2144880" cy="1303200"/>
              <a:chOff x="6553080" y="5334120"/>
              <a:chExt cx="2144880" cy="1303200"/>
            </a:xfrm>
          </p:grpSpPr>
          <p:sp>
            <p:nvSpPr>
              <p:cNvPr id="67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90" name=""/>
            <p:cNvGrpSpPr/>
            <p:nvPr/>
          </p:nvGrpSpPr>
          <p:grpSpPr>
            <a:xfrm>
              <a:off x="8381880" y="4800600"/>
              <a:ext cx="674640" cy="409680"/>
              <a:chOff x="8381880" y="4800600"/>
              <a:chExt cx="674640" cy="409680"/>
            </a:xfrm>
          </p:grpSpPr>
          <p:sp>
            <p:nvSpPr>
              <p:cNvPr id="69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8" name=""/>
              <p:cNvGrpSpPr/>
              <p:nvPr/>
            </p:nvGrpSpPr>
            <p:grpSpPr>
              <a:xfrm>
                <a:off x="8542440" y="4897440"/>
                <a:ext cx="360360" cy="209520"/>
                <a:chOff x="8542440" y="4897440"/>
                <a:chExt cx="360360" cy="209520"/>
              </a:xfrm>
            </p:grpSpPr>
            <p:sp>
              <p:nvSpPr>
                <p:cNvPr id="69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5FB8-3717-4063-A041-5EA13B87D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3" name=""/>
          <p:cNvGrpSpPr/>
          <p:nvPr/>
        </p:nvGrpSpPr>
        <p:grpSpPr>
          <a:xfrm>
            <a:off x="1440" y="0"/>
            <a:ext cx="9149040" cy="6851520"/>
            <a:chOff x="1440" y="0"/>
            <a:chExt cx="9149040" cy="6851520"/>
          </a:xfrm>
        </p:grpSpPr>
        <p:sp>
          <p:nvSpPr>
            <p:cNvPr id="74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7" name=""/>
            <p:cNvGrpSpPr/>
            <p:nvPr/>
          </p:nvGrpSpPr>
          <p:grpSpPr>
            <a:xfrm>
              <a:off x="457200" y="0"/>
              <a:ext cx="8093160" cy="6851520"/>
              <a:chOff x="457200" y="0"/>
              <a:chExt cx="8093160" cy="6851520"/>
            </a:xfrm>
          </p:grpSpPr>
          <p:sp>
            <p:nvSpPr>
              <p:cNvPr id="74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2" name=""/>
            <p:cNvGrpSpPr/>
            <p:nvPr/>
          </p:nvGrpSpPr>
          <p:grpSpPr>
            <a:xfrm>
              <a:off x="1440" y="622440"/>
              <a:ext cx="9141120" cy="2493720"/>
              <a:chOff x="1440" y="622440"/>
              <a:chExt cx="9141120" cy="2493720"/>
            </a:xfrm>
          </p:grpSpPr>
          <p:sp>
            <p:nvSpPr>
              <p:cNvPr id="77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1"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2"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3"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16D4-1525-46D1-8C13-E836533B3C6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1" name=""/>
          <p:cNvGrpSpPr/>
          <p:nvPr/>
        </p:nvGrpSpPr>
        <p:grpSpPr>
          <a:xfrm>
            <a:off x="0" y="0"/>
            <a:ext cx="9148320" cy="6851520"/>
            <a:chOff x="0" y="0"/>
            <a:chExt cx="9148320" cy="6851520"/>
          </a:xfrm>
        </p:grpSpPr>
        <p:sp>
          <p:nvSpPr>
            <p:cNvPr id="82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5" name=""/>
            <p:cNvGrpSpPr/>
            <p:nvPr/>
          </p:nvGrpSpPr>
          <p:grpSpPr>
            <a:xfrm>
              <a:off x="455400" y="0"/>
              <a:ext cx="8092440" cy="6851520"/>
              <a:chOff x="455400" y="0"/>
              <a:chExt cx="8092440" cy="6851520"/>
            </a:xfrm>
          </p:grpSpPr>
          <p:sp>
            <p:nvSpPr>
              <p:cNvPr id="82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0" name=""/>
            <p:cNvGrpSpPr/>
            <p:nvPr/>
          </p:nvGrpSpPr>
          <p:grpSpPr>
            <a:xfrm>
              <a:off x="0" y="622440"/>
              <a:ext cx="9140760" cy="2493720"/>
              <a:chOff x="0" y="622440"/>
              <a:chExt cx="9140760" cy="2493720"/>
            </a:xfrm>
          </p:grpSpPr>
          <p:sp>
            <p:nvSpPr>
              <p:cNvPr id="85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9"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60"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1"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BBA9-88F2-4045-B626-7FB4CDFEEDC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98" name=""/>
          <p:cNvGrpSpPr/>
          <p:nvPr/>
        </p:nvGrpSpPr>
        <p:grpSpPr>
          <a:xfrm>
            <a:off x="-103320" y="1308240"/>
            <a:ext cx="9350640" cy="5632560"/>
            <a:chOff x="-103320" y="1308240"/>
            <a:chExt cx="9350640" cy="5632560"/>
          </a:xfrm>
        </p:grpSpPr>
        <p:sp>
          <p:nvSpPr>
            <p:cNvPr id="89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4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4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6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9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9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1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6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8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8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9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1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4" name="PlaceHolder 1"/>
          <p:cNvSpPr>
            <a:spLocks noGrp="1"/>
          </p:cNvSpPr>
          <p:nvPr>
            <p:ph type="sldNum" idx="4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F903-4E15-4E79-B222-301E61803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2"/>
          <p:cNvSpPr>
            <a:spLocks noGrp="1"/>
          </p:cNvSpPr>
          <p:nvPr>
            <p:ph type="dt" idx="4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6" name="PlaceHolder 3"/>
          <p:cNvSpPr>
            <a:spLocks noGrp="1"/>
          </p:cNvSpPr>
          <p:nvPr>
            <p:ph type="ftr" idx="4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1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155" name=""/>
          <p:cNvGrpSpPr/>
          <p:nvPr/>
        </p:nvGrpSpPr>
        <p:grpSpPr>
          <a:xfrm>
            <a:off x="-105120" y="1311120"/>
            <a:ext cx="9350640" cy="5632560"/>
            <a:chOff x="-105120" y="1311120"/>
            <a:chExt cx="9350640" cy="5632560"/>
          </a:xfrm>
        </p:grpSpPr>
        <p:sp>
          <p:nvSpPr>
            <p:cNvPr id="115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9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0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0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0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21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1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1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22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3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4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4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5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7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7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7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1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1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2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2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4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4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6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6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372"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4"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60A1-5983-4171-B87E-E1997CB67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1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1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1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C98E-DFD2-4EEA-8857-6824F5A2FA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53"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54"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55"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4C35-5483-4671-B439-518771E389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92" name=""/>
          <p:cNvGrpSpPr/>
          <p:nvPr/>
        </p:nvGrpSpPr>
        <p:grpSpPr>
          <a:xfrm>
            <a:off x="4716360" y="5345280"/>
            <a:ext cx="4427640" cy="1512720"/>
            <a:chOff x="4716360" y="5345280"/>
            <a:chExt cx="4427640" cy="1512720"/>
          </a:xfrm>
        </p:grpSpPr>
        <p:sp>
          <p:nvSpPr>
            <p:cNvPr id="149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9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9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09"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10"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11"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CD99-4E87-4532-A272-2D97E43B27E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1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9165-51A2-48B5-9A94-2020F9570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49" name=""/>
          <p:cNvGrpSpPr/>
          <p:nvPr/>
        </p:nvGrpSpPr>
        <p:grpSpPr>
          <a:xfrm>
            <a:off x="4716360" y="5345280"/>
            <a:ext cx="4427640" cy="1512720"/>
            <a:chOff x="4716360" y="5345280"/>
            <a:chExt cx="4427640" cy="1512720"/>
          </a:xfrm>
        </p:grpSpPr>
        <p:sp>
          <p:nvSpPr>
            <p:cNvPr id="155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5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566" name="PlaceHolder 2"/>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67"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68" name="PlaceHolder 4"/>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EB8A-5E29-4521-9965-92F3BAB3C91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05" name=""/>
          <p:cNvGrpSpPr/>
          <p:nvPr/>
        </p:nvGrpSpPr>
        <p:grpSpPr>
          <a:xfrm>
            <a:off x="0" y="0"/>
            <a:ext cx="9144000" cy="6934320"/>
            <a:chOff x="0" y="0"/>
            <a:chExt cx="9144000" cy="6934320"/>
          </a:xfrm>
        </p:grpSpPr>
        <p:sp>
          <p:nvSpPr>
            <p:cNvPr id="160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26"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2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28"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E90C-81FA-40FC-BCF6-09E5CFF167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65" name=""/>
          <p:cNvGrpSpPr/>
          <p:nvPr/>
        </p:nvGrpSpPr>
        <p:grpSpPr>
          <a:xfrm>
            <a:off x="0" y="0"/>
            <a:ext cx="9144000" cy="6934320"/>
            <a:chOff x="0" y="0"/>
            <a:chExt cx="9144000" cy="6934320"/>
          </a:xfrm>
        </p:grpSpPr>
        <p:sp>
          <p:nvSpPr>
            <p:cNvPr id="166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685"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8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7"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B7A3-3CE4-4817-B2BA-272ACE5DA7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4D29-AB15-49B8-A10C-60B220575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D9D3-0843-49AC-8742-05D0A35C1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29B5-78CF-4681-804D-7BC9AE863D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7" name=""/>
          <p:cNvGrpSpPr/>
          <p:nvPr/>
        </p:nvGrpSpPr>
        <p:grpSpPr>
          <a:xfrm>
            <a:off x="0" y="0"/>
            <a:ext cx="9140760" cy="6850080"/>
            <a:chOff x="0" y="0"/>
            <a:chExt cx="9140760" cy="6850080"/>
          </a:xfrm>
        </p:grpSpPr>
        <p:grpSp>
          <p:nvGrpSpPr>
            <p:cNvPr id="168" name=""/>
            <p:cNvGrpSpPr/>
            <p:nvPr/>
          </p:nvGrpSpPr>
          <p:grpSpPr>
            <a:xfrm>
              <a:off x="2743200" y="3540240"/>
              <a:ext cx="6392880" cy="3309840"/>
              <a:chOff x="2743200" y="3540240"/>
              <a:chExt cx="6392880" cy="3309840"/>
            </a:xfrm>
          </p:grpSpPr>
          <p:sp>
            <p:nvSpPr>
              <p:cNvPr id="16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7"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5" name=""/>
          <p:cNvGrpSpPr/>
          <p:nvPr/>
        </p:nvGrpSpPr>
        <p:grpSpPr>
          <a:xfrm>
            <a:off x="0" y="0"/>
            <a:ext cx="9140760" cy="6850080"/>
            <a:chOff x="0" y="0"/>
            <a:chExt cx="9140760" cy="6850080"/>
          </a:xfrm>
        </p:grpSpPr>
        <p:grpSp>
          <p:nvGrpSpPr>
            <p:cNvPr id="216" name=""/>
            <p:cNvGrpSpPr/>
            <p:nvPr/>
          </p:nvGrpSpPr>
          <p:grpSpPr>
            <a:xfrm>
              <a:off x="2743200" y="3540240"/>
              <a:ext cx="6392880" cy="3309840"/>
              <a:chOff x="2743200" y="3540240"/>
              <a:chExt cx="6392880" cy="3309840"/>
            </a:xfrm>
          </p:grpSpPr>
          <p:sp>
            <p:nvSpPr>
              <p:cNvPr id="21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5"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6"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7"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CB4D-E554-441C-AB38-5AC579E0B2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4" name=""/>
          <p:cNvGrpSpPr/>
          <p:nvPr/>
        </p:nvGrpSpPr>
        <p:grpSpPr>
          <a:xfrm>
            <a:off x="0" y="6480"/>
            <a:ext cx="9140760" cy="6851520"/>
            <a:chOff x="0" y="6480"/>
            <a:chExt cx="9140760" cy="6851520"/>
          </a:xfrm>
        </p:grpSpPr>
        <p:sp>
          <p:nvSpPr>
            <p:cNvPr id="26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0" y="6480"/>
              <a:ext cx="9140760" cy="6851520"/>
              <a:chOff x="0" y="6480"/>
              <a:chExt cx="9140760" cy="6851520"/>
            </a:xfrm>
          </p:grpSpPr>
          <p:sp>
            <p:nvSpPr>
              <p:cNvPr id="268"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1"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9"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80"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1"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BE89-2230-413C-81D8-612F3B04528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8" name=""/>
          <p:cNvGrpSpPr/>
          <p:nvPr/>
        </p:nvGrpSpPr>
        <p:grpSpPr>
          <a:xfrm>
            <a:off x="0" y="6480"/>
            <a:ext cx="9140760" cy="6851520"/>
            <a:chOff x="0" y="6480"/>
            <a:chExt cx="9140760" cy="6851520"/>
          </a:xfrm>
        </p:grpSpPr>
        <p:grpSp>
          <p:nvGrpSpPr>
            <p:cNvPr id="319" name=""/>
            <p:cNvGrpSpPr/>
            <p:nvPr/>
          </p:nvGrpSpPr>
          <p:grpSpPr>
            <a:xfrm>
              <a:off x="0" y="1843200"/>
              <a:ext cx="9140760" cy="5014800"/>
              <a:chOff x="0" y="1843200"/>
              <a:chExt cx="9140760" cy="5014800"/>
            </a:xfrm>
          </p:grpSpPr>
          <p:sp>
            <p:nvSpPr>
              <p:cNvPr id="32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4"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5" name=""/>
            <p:cNvGrpSpPr/>
            <p:nvPr/>
          </p:nvGrpSpPr>
          <p:grpSpPr>
            <a:xfrm>
              <a:off x="552600" y="6480"/>
              <a:ext cx="8588160" cy="6851520"/>
              <a:chOff x="552600" y="6480"/>
              <a:chExt cx="8588160" cy="6851520"/>
            </a:xfrm>
          </p:grpSpPr>
          <p:sp>
            <p:nvSpPr>
              <p:cNvPr id="32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3"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4"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5"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518A-AFBC-4707-B5AF-4B6FD267AFB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0" y="0"/>
            <a:ext cx="9144000" cy="6856560"/>
            <a:chOff x="0" y="0"/>
            <a:chExt cx="9144000" cy="6856560"/>
          </a:xfrm>
        </p:grpSpPr>
        <p:sp>
          <p:nvSpPr>
            <p:cNvPr id="37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9" name=""/>
            <p:cNvGrpSpPr/>
            <p:nvPr/>
          </p:nvGrpSpPr>
          <p:grpSpPr>
            <a:xfrm>
              <a:off x="0" y="2590920"/>
              <a:ext cx="9140760" cy="2949480"/>
              <a:chOff x="0" y="2590920"/>
              <a:chExt cx="9140760" cy="2949480"/>
            </a:xfrm>
          </p:grpSpPr>
          <p:sp>
            <p:nvSpPr>
              <p:cNvPr id="41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5FFC-F03B-4F2F-BB3D-A67EBC1907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nowhawk.com/newbie.html" TargetMode="External"/><Relationship Id="rId3" Type="http://schemas.openxmlformats.org/officeDocument/2006/relationships/hyperlink" Target="http://www.internet101.org/searching/" TargetMode="External"/><Relationship Id="rId4" Type="http://schemas.openxmlformats.org/officeDocument/2006/relationships/hyperlink" Target="http://www.snowhawk.com/newbie.html#nse" TargetMode="External"/><Relationship Id="rId5" Type="http://schemas.openxmlformats.org/officeDocument/2006/relationships/hyperlink" Target="http://searchenginewatch.com/showPage.html?page=2167931" TargetMode="External"/><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7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slideLayout" Target="../slideLayouts/slideLayout19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hyperlink" Target="http://www.eileensdigi-delights.com/images/Computers%20One.jpg" TargetMode="External"/><Relationship Id="rId2" Type="http://schemas.openxmlformats.org/officeDocument/2006/relationships/image" Target="../media/image14.jpeg"/><Relationship Id="rId3" Type="http://schemas.openxmlformats.org/officeDocument/2006/relationships/slideLayout" Target="../slideLayouts/slideLayout21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143000" y="9144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uter Tutorial on Searching the Internet</a:t>
            </a:r>
            <a:endParaRPr b="0" lang="en-US" sz="4400" spc="-1" strike="noStrike">
              <a:solidFill>
                <a:srgbClr val="ffffff"/>
              </a:solidFill>
              <a:latin typeface="Tahoma"/>
            </a:endParaRPr>
          </a:p>
        </p:txBody>
      </p:sp>
      <p:sp>
        <p:nvSpPr>
          <p:cNvPr id="1725" name="PlaceHolder 2"/>
          <p:cNvSpPr>
            <a:spLocks noGrp="1"/>
          </p:cNvSpPr>
          <p:nvPr>
            <p:ph type="subTitle"/>
          </p:nvPr>
        </p:nvSpPr>
        <p:spPr>
          <a:xfrm>
            <a:off x="2133720" y="26665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Whitney Wrigh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ing problems with computers???</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26" name="" descr=""/>
          <p:cNvPicPr/>
          <p:nvPr/>
        </p:nvPicPr>
        <p:blipFill>
          <a:blip r:embed="rId2"/>
          <a:stretch/>
        </p:blipFill>
        <p:spPr>
          <a:xfrm>
            <a:off x="380880" y="3700440"/>
            <a:ext cx="3276720" cy="270036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26"/>
                                        </p:tgtEl>
                                        <p:attrNameLst>
                                          <p:attrName>style.visibility</p:attrName>
                                        </p:attrNameLst>
                                      </p:cBhvr>
                                      <p:to>
                                        <p:strVal val="visible"/>
                                      </p:to>
                                    </p:set>
                                    <p:animEffect filter="checkerboard(across)" transition="in">
                                      <p:cBhvr additive="repl">
                                        <p:cTn id="7" dur="500"/>
                                        <p:tgtEl>
                                          <p:spTgt spid="17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6" presetSubtype="16">
                                  <p:stCondLst>
                                    <p:cond delay="0"/>
                                  </p:stCondLst>
                                  <p:childTnLst>
                                    <p:animEffect filter="circle(in)" transition="out">
                                      <p:cBhvr additive="repl">
                                        <p:cTn id="11" dur="2000"/>
                                        <p:tgtEl>
                                          <p:spTgt spid="1726"/>
                                        </p:tgtEl>
                                      </p:cBhvr>
                                    </p:animEffect>
                                    <p:set>
                                      <p:cBhvr>
                                        <p:cTn id="12" dur="1" fill="hold">
                                          <p:stCondLst>
                                            <p:cond delay="1999"/>
                                          </p:stCondLst>
                                        </p:cTn>
                                        <p:tgtEl>
                                          <p:spTgt spid="1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533520" y="7617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itations!!!</a:t>
            </a:r>
            <a:endParaRPr b="0" lang="en-US" sz="4400" spc="-1" strike="noStrike">
              <a:solidFill>
                <a:srgbClr val="b7e7ff"/>
              </a:solidFill>
              <a:latin typeface="Arial"/>
            </a:endParaRPr>
          </a:p>
        </p:txBody>
      </p:sp>
      <p:sp>
        <p:nvSpPr>
          <p:cNvPr id="1747"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2"/>
              </a:rPr>
              <a:t>http://www.snowhawk.com/newbie.html</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3"/>
              </a:rPr>
              <a:t>http://www.internet101.org/searching/</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4"/>
              </a:rPr>
              <a:t>http://www.snowhawk.com/newbie.html#nse</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5"/>
              </a:rPr>
              <a:t>http://searchenginewatch.com/showPage.html?page=2167931</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images.google.com/images?q=computer+cartoons&amp;gbv=2&amp;svnum=10&amp;hl=en&amp;start=20&amp;sa=N&amp;ndsp=2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images.google.com/images?hl=en&amp;q=computer+cartoons&amp;gbv=2</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END</a:t>
            </a:r>
            <a:endParaRPr b="1" lang="en-US" sz="4400" spc="-1" strike="noStrike">
              <a:solidFill>
                <a:srgbClr val="feec94"/>
              </a:solidFill>
              <a:latin typeface="Times New Roman"/>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end of my information on searching.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s basic, you can figure anything out if you just work a little with searching.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time you get on a computer you can learn something new because anything you do on a computer feeds off to something els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ways ASK questio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tupid questions when it comes to compters because there is so much to know about them!!! </a:t>
            </a:r>
            <a:endParaRPr b="0" lang="en-US" sz="2800" spc="-1" strike="noStrike">
              <a:solidFill>
                <a:srgbClr val="ffffff"/>
              </a:solidFill>
              <a:latin typeface="Times New Roman"/>
            </a:endParaRPr>
          </a:p>
        </p:txBody>
      </p:sp>
      <p:pic>
        <p:nvPicPr>
          <p:cNvPr id="1750" name="" descr=""/>
          <p:cNvPicPr/>
          <p:nvPr/>
        </p:nvPicPr>
        <p:blipFill>
          <a:blip r:embed="rId1"/>
          <a:stretch/>
        </p:blipFill>
        <p:spPr>
          <a:xfrm>
            <a:off x="7467480" y="152280"/>
            <a:ext cx="1428840" cy="1428840"/>
          </a:xfrm>
          <a:prstGeom prst="rect">
            <a:avLst/>
          </a:prstGeom>
          <a:ln w="0">
            <a:noFill/>
          </a:ln>
        </p:spPr>
      </p:pic>
    </p:spTree>
  </p:cSld>
  <p:transition>
    <p:cover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750"/>
                                        </p:tgtEl>
                                        <p:attrNameLst>
                                          <p:attrName>style.visibility</p:attrName>
                                        </p:attrNameLst>
                                      </p:cBhvr>
                                      <p:to>
                                        <p:strVal val="visible"/>
                                      </p:to>
                                    </p:set>
                                    <p:animEffect filter="strips(downLeft)" transition="in">
                                      <p:cBhvr additive="repl">
                                        <p:cTn id="56" dur="500"/>
                                        <p:tgtEl>
                                          <p:spTgt spid="175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Effect filter="slide(fromBottom)" transition="out">
                                      <p:cBhvr additive="repl">
                                        <p:cTn id="60" dur="500"/>
                                        <p:tgtEl>
                                          <p:spTgt spid="1750"/>
                                        </p:tgtEl>
                                      </p:cBhvr>
                                    </p:animEffect>
                                    <p:set>
                                      <p:cBhvr>
                                        <p:cTn id="61" dur="1" fill="hold">
                                          <p:stCondLst>
                                            <p:cond delay="499"/>
                                          </p:stCondLst>
                                        </p:cTn>
                                        <p:tgtEl>
                                          <p:spTgt spid="1750"/>
                                        </p:tgtEl>
                                        <p:attrNameLst>
                                          <p:attrName>style.visibility</p:attrName>
                                        </p:attrNameLst>
                                      </p:cBhvr>
                                      <p:to>
                                        <p:strVal val="hidden"/>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748"/>
                                        </p:tgtEl>
                                        <p:attrNameLst>
                                          <p:attrName>style.visibility</p:attrName>
                                        </p:attrNameLst>
                                      </p:cBhvr>
                                      <p:to>
                                        <p:strVal val="visible"/>
                                      </p:to>
                                    </p:set>
                                    <p:animEffect filter="blinds(horizontal)" transition="in">
                                      <p:cBhvr additive="repl">
                                        <p:cTn id="66" dur="500"/>
                                        <p:tgtEl>
                                          <p:spTgt spid="17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749">
                                            <p:txEl>
                                              <p:pRg st="0" end="0"/>
                                            </p:txEl>
                                          </p:spTgt>
                                        </p:tgtEl>
                                        <p:attrNameLst>
                                          <p:attrName>style.visibility</p:attrName>
                                        </p:attrNameLst>
                                      </p:cBhvr>
                                      <p:to>
                                        <p:strVal val="visible"/>
                                      </p:to>
                                    </p:set>
                                    <p:animEffect filter="checkerboard(across)" transition="in">
                                      <p:cBhvr additive="repl">
                                        <p:cTn id="71" dur="500"/>
                                        <p:tgtEl>
                                          <p:spTgt spid="17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749">
                                            <p:txEl>
                                              <p:pRg st="1" end="1"/>
                                            </p:txEl>
                                          </p:spTgt>
                                        </p:tgtEl>
                                        <p:attrNameLst>
                                          <p:attrName>style.visibility</p:attrName>
                                        </p:attrNameLst>
                                      </p:cBhvr>
                                      <p:to>
                                        <p:strVal val="visible"/>
                                      </p:to>
                                    </p:set>
                                    <p:animEffect filter="checkerboard(across)" transition="in">
                                      <p:cBhvr additive="repl">
                                        <p:cTn id="76" dur="500"/>
                                        <p:tgtEl>
                                          <p:spTgt spid="17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49">
                                            <p:txEl>
                                              <p:pRg st="2" end="2"/>
                                            </p:txEl>
                                          </p:spTgt>
                                        </p:tgtEl>
                                        <p:attrNameLst>
                                          <p:attrName>style.visibility</p:attrName>
                                        </p:attrNameLst>
                                      </p:cBhvr>
                                      <p:to>
                                        <p:strVal val="visible"/>
                                      </p:to>
                                    </p:set>
                                    <p:animEffect filter="checkerboard(across)" transition="in">
                                      <p:cBhvr additive="repl">
                                        <p:cTn id="81" dur="500"/>
                                        <p:tgtEl>
                                          <p:spTgt spid="1749">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749">
                                            <p:txEl>
                                              <p:pRg st="3" end="3"/>
                                            </p:txEl>
                                          </p:spTgt>
                                        </p:tgtEl>
                                        <p:attrNameLst>
                                          <p:attrName>style.visibility</p:attrName>
                                        </p:attrNameLst>
                                      </p:cBhvr>
                                      <p:to>
                                        <p:strVal val="visible"/>
                                      </p:to>
                                    </p:set>
                                    <p:animEffect filter="checkerboard(across)" transition="in">
                                      <p:cBhvr additive="repl">
                                        <p:cTn id="86" dur="500"/>
                                        <p:tgtEl>
                                          <p:spTgt spid="1749">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49">
                                            <p:txEl>
                                              <p:pRg st="4" end="4"/>
                                            </p:txEl>
                                          </p:spTgt>
                                        </p:tgtEl>
                                        <p:attrNameLst>
                                          <p:attrName>style.visibility</p:attrName>
                                        </p:attrNameLst>
                                      </p:cBhvr>
                                      <p:to>
                                        <p:strVal val="visible"/>
                                      </p:to>
                                    </p:set>
                                    <p:animEffect filter="checkerboard(across)" transition="in">
                                      <p:cBhvr additive="repl">
                                        <p:cTn id="91" dur="500"/>
                                        <p:tgtEl>
                                          <p:spTgt spid="17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rowsing the Internet</a:t>
            </a:r>
            <a:br>
              <a:rPr sz="4000"/>
            </a:br>
            <a:r>
              <a:rPr b="1" lang="en-US" sz="4000" spc="-1" strike="noStrike">
                <a:solidFill>
                  <a:srgbClr val="e5e5ff"/>
                </a:solidFill>
                <a:latin typeface="Garamond"/>
              </a:rPr>
              <a:t>“Surfing the Net”</a:t>
            </a:r>
            <a:endParaRPr b="1" lang="en-US" sz="4000" spc="-1" strike="noStrike">
              <a:solidFill>
                <a:srgbClr val="e5e5ff"/>
              </a:solidFill>
              <a:latin typeface="Garamond"/>
            </a:endParaRPr>
          </a:p>
        </p:txBody>
      </p:sp>
      <p:sp>
        <p:nvSpPr>
          <p:cNvPr id="1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Moving about the interne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Search engines, and directories, (also known as spyders, crawlers, and robots) are programs that get you listings of Web sites about your particular interest by submitting a word or phras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Internet Explorer</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Gives a smooth e-journey.</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BE PATIENT!!!</a:t>
            </a:r>
            <a:endParaRPr b="0" lang="en-US" sz="4400" spc="-1" strike="noStrike">
              <a:solidFill>
                <a:srgbClr val="dfdef6"/>
              </a:solidFill>
              <a:latin typeface="Arial"/>
            </a:endParaRPr>
          </a:p>
        </p:txBody>
      </p:sp>
      <p:sp>
        <p:nvSpPr>
          <p:cNvPr id="17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Key idea to figuring out how to work well on a computer!!!</a:t>
            </a:r>
            <a:endParaRPr b="0" lang="en-US" sz="3200" spc="-1" strike="noStrike">
              <a:solidFill>
                <a:srgbClr val="ffffff"/>
              </a:solidFill>
              <a:latin typeface="Arial"/>
            </a:endParaRPr>
          </a:p>
        </p:txBody>
      </p:sp>
      <p:pic>
        <p:nvPicPr>
          <p:cNvPr id="1731" name="" descr=""/>
          <p:cNvPicPr/>
          <p:nvPr/>
        </p:nvPicPr>
        <p:blipFill>
          <a:blip r:embed="rId2"/>
          <a:stretch/>
        </p:blipFill>
        <p:spPr>
          <a:xfrm>
            <a:off x="3505320" y="2666880"/>
            <a:ext cx="3962160" cy="340056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731"/>
                                        </p:tgtEl>
                                        <p:attrNameLst>
                                          <p:attrName>style.visibility</p:attrName>
                                        </p:attrNameLst>
                                      </p:cBhvr>
                                      <p:to>
                                        <p:strVal val="visible"/>
                                      </p:to>
                                    </p:set>
                                    <p:animEffect filter="diamond(in)" transition="in">
                                      <p:cBhvr additive="repl">
                                        <p:cTn id="19" dur="2000"/>
                                        <p:tgtEl>
                                          <p:spTgt spid="173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6" presetSubtype="26">
                                  <p:stCondLst>
                                    <p:cond delay="0"/>
                                  </p:stCondLst>
                                  <p:childTnLst>
                                    <p:animEffect filter="barn(inHorizontal)" transition="out">
                                      <p:cBhvr additive="repl">
                                        <p:cTn id="23" dur="500"/>
                                        <p:tgtEl>
                                          <p:spTgt spid="1731"/>
                                        </p:tgtEl>
                                      </p:cBhvr>
                                    </p:animEffect>
                                    <p:set>
                                      <p:cBhvr>
                                        <p:cTn id="24" dur="1" fill="hold">
                                          <p:stCondLst>
                                            <p:cond delay="499"/>
                                          </p:stCondLst>
                                        </p:cTn>
                                        <p:tgtEl>
                                          <p:spTgt spid="1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Links…….(small ic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lored Tex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raphic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ic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hen choosing a Link; you can go back to a previous page using the BACK arrow. </a:t>
            </a:r>
            <a:endParaRPr b="0" lang="en-US" sz="3200" spc="-1" strike="noStrike">
              <a:solidFill>
                <a:srgbClr val="ffffff"/>
              </a:solidFill>
              <a:latin typeface="Tahoma"/>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Remember, the purpose is finding, not searching!</a:t>
            </a:r>
            <a:endParaRPr b="0" lang="en-US" sz="4000" spc="-1" strike="noStrike">
              <a:solidFill>
                <a:srgbClr val="ffffff"/>
              </a:solidFill>
              <a:latin typeface="Arial"/>
            </a:endParaRPr>
          </a:p>
        </p:txBody>
      </p:sp>
      <p:sp>
        <p:nvSpPr>
          <p:cNvPr id="1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Read the “Hints” and “Help” for each search engine.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is will explain how each search tool operates!</a:t>
            </a:r>
            <a:endParaRPr b="0" lang="en-US" sz="2800" spc="-1" strike="noStrike">
              <a:solidFill>
                <a:srgbClr val="ffffff"/>
              </a:solidFill>
              <a:latin typeface="Arial"/>
            </a:endParaRPr>
          </a:p>
          <a:p>
            <a:pPr marL="343080" indent="-343080">
              <a:lnSpc>
                <a:spcPct val="80000"/>
              </a:lnSpc>
              <a:spcBef>
                <a:spcPts val="4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Experiment with different search engines. Even though they are all similar, they all have important differences. A search engine that is quick, but returns 40,000 pages may not be as effective as one that may be slower but returns only 30 pages. Find the search engine that is best suited for your need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ahoma"/>
              </a:rPr>
              <a:t>You must have the knowledge to know what you are doing???</a:t>
            </a:r>
            <a:endParaRPr b="0" lang="en-US" sz="4000" spc="-1" strike="noStrike">
              <a:solidFill>
                <a:srgbClr val="e5ffff"/>
              </a:solidFill>
              <a:latin typeface="Tahoma"/>
            </a:endParaRPr>
          </a:p>
        </p:txBody>
      </p:sp>
      <p:sp>
        <p:nvSpPr>
          <p:cNvPr id="17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As you continue to research ideas, you will quickly pick up on what you need to do!!!</a:t>
            </a:r>
            <a:endParaRPr b="0" lang="en-US" sz="3200" spc="-1" strike="noStrike">
              <a:solidFill>
                <a:srgbClr val="ffffff"/>
              </a:solidFill>
              <a:latin typeface="Tahoma"/>
            </a:endParaRPr>
          </a:p>
        </p:txBody>
      </p:sp>
      <p:pic>
        <p:nvPicPr>
          <p:cNvPr id="1738" name="" descr=""/>
          <p:cNvPicPr/>
          <p:nvPr/>
        </p:nvPicPr>
        <p:blipFill>
          <a:blip r:embed="rId2"/>
          <a:stretch/>
        </p:blipFill>
        <p:spPr>
          <a:xfrm>
            <a:off x="3429000" y="3276720"/>
            <a:ext cx="5076720" cy="3381120"/>
          </a:xfrm>
          <a:prstGeom prst="rect">
            <a:avLst/>
          </a:prstGeom>
          <a:ln w="0">
            <a:noFill/>
          </a:ln>
        </p:spPr>
      </p:pic>
    </p:spTree>
  </p:cSld>
  <p:transition>
    <p:split dir="out" orient="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38"/>
                                        </p:tgtEl>
                                        <p:attrNameLst>
                                          <p:attrName>style.visibility</p:attrName>
                                        </p:attrNameLst>
                                      </p:cBhvr>
                                      <p:to>
                                        <p:strVal val="visible"/>
                                      </p:to>
                                    </p:set>
                                    <p:animEffect filter="blinds(horizontal)" transition="in">
                                      <p:cBhvr additive="repl">
                                        <p:cTn id="31" dur="500"/>
                                        <p:tgtEl>
                                          <p:spTgt spid="173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4" presetSubtype="16">
                                  <p:stCondLst>
                                    <p:cond delay="0"/>
                                  </p:stCondLst>
                                  <p:childTnLst>
                                    <p:animEffect filter="box(in)" transition="out">
                                      <p:cBhvr additive="repl">
                                        <p:cTn id="35" dur="500"/>
                                        <p:tgtEl>
                                          <p:spTgt spid="1738"/>
                                        </p:tgtEl>
                                      </p:cBhvr>
                                    </p:animEffect>
                                    <p:set>
                                      <p:cBhvr>
                                        <p:cTn id="36" dur="1" fill="hold">
                                          <p:stCondLst>
                                            <p:cond delay="499"/>
                                          </p:stCondLst>
                                        </p:cTn>
                                        <p:tgtEl>
                                          <p:spTgt spid="1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ps: Will help you get the most out of your search! </a:t>
            </a:r>
            <a:r>
              <a:rPr b="0" lang="en-US" sz="4000" spc="-1" strike="noStrike">
                <a:solidFill>
                  <a:srgbClr val="ccecff"/>
                </a:solidFill>
                <a:latin typeface="Wingdings"/>
                <a:ea typeface="Wingdings"/>
              </a:rPr>
              <a:t></a:t>
            </a:r>
            <a:endParaRPr b="0" lang="en-US" sz="4000" spc="-1" strike="noStrike">
              <a:solidFill>
                <a:srgbClr val="ccecff"/>
              </a:solidFill>
              <a:latin typeface="Arial"/>
            </a:endParaRPr>
          </a:p>
        </p:txBody>
      </p:sp>
      <p:sp>
        <p:nvSpPr>
          <p:cNvPr id="1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pelling is important for a successful search. If you aren’t getting the results you want, double-check the spell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words you enter in the search box will have the most direct impact on the results you receive. For that reason, we suggest that you use the most direct words you can. If you are searching for information about Florida type “Florida”. If you want to find information about vacationing in Florida type “Florida vacation.”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ter words that you think will appear on the Web page you want. </a:t>
            </a:r>
            <a:endParaRPr b="0" lang="en-US" sz="2800" spc="-1" strike="noStrike">
              <a:solidFill>
                <a:srgbClr val="ffffff"/>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miting Result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ind Specific Information you are looking up!</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You must be specific with your search.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Use distinct word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 a meta-search engine, you submit keywords in its search box, and it transmits your search simultaneously to several individual search engines and their databases of web pages. Within a few seconds, you get back results from all the search engines queried. Meta-search engines do not own a database of Web pages; they send your search terms to the databases maintained by search engine companies.</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ver give up on your computer!!!</a:t>
            </a:r>
            <a:br>
              <a:rPr sz="4000"/>
            </a:br>
            <a:endParaRPr b="0" lang="en-US" sz="4000" spc="-1" strike="noStrike">
              <a:solidFill>
                <a:srgbClr val="ffffcc"/>
              </a:solidFill>
              <a:latin typeface="Arial"/>
            </a:endParaRPr>
          </a:p>
        </p:txBody>
      </p:sp>
      <p:sp>
        <p:nvSpPr>
          <p:cNvPr id="17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puters are hitting a high mark in society today!!! We will be using them a lot in the near future and YOU should know what you are doing!!</a:t>
            </a:r>
            <a:endParaRPr b="0" lang="en-US" sz="3200" spc="-1" strike="noStrike">
              <a:solidFill>
                <a:srgbClr val="eaeaea"/>
              </a:solidFill>
              <a:latin typeface="Verdana"/>
            </a:endParaRPr>
          </a:p>
        </p:txBody>
      </p:sp>
      <p:pic>
        <p:nvPicPr>
          <p:cNvPr id="1745" name="" descr="">
            <a:hlinkClick r:id="rId1"/>
          </p:cNvPr>
          <p:cNvPicPr/>
          <p:nvPr/>
        </p:nvPicPr>
        <p:blipFill>
          <a:blip r:embed="rId2"/>
          <a:stretch/>
        </p:blipFill>
        <p:spPr>
          <a:xfrm>
            <a:off x="5867280" y="3733920"/>
            <a:ext cx="2793960" cy="2895480"/>
          </a:xfrm>
          <a:prstGeom prst="rect">
            <a:avLst/>
          </a:prstGeom>
          <a:ln w="0">
            <a:noFill/>
          </a:ln>
        </p:spPr>
      </p:pic>
    </p:spTree>
  </p:cSld>
  <p:transition>
    <p:strips dir="l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45"/>
                                        </p:tgtEl>
                                        <p:attrNameLst>
                                          <p:attrName>style.visibility</p:attrName>
                                        </p:attrNameLst>
                                      </p:cBhvr>
                                      <p:to>
                                        <p:strVal val="visible"/>
                                      </p:to>
                                    </p:set>
                                    <p:anim calcmode="lin" valueType="num">
                                      <p:cBhvr additive="base">
                                        <p:cTn id="43" dur="500" fill="hold"/>
                                        <p:tgtEl>
                                          <p:spTgt spid="1745"/>
                                        </p:tgtEl>
                                        <p:attrNameLst>
                                          <p:attrName>ppt_x</p:attrName>
                                        </p:attrNameLst>
                                      </p:cBhvr>
                                      <p:tavLst>
                                        <p:tav tm="0">
                                          <p:val>
                                            <p:strVal val="#ppt_x"/>
                                          </p:val>
                                        </p:tav>
                                        <p:tav tm="100000">
                                          <p:val>
                                            <p:strVal val="#ppt_x"/>
                                          </p:val>
                                        </p:tav>
                                      </p:tavLst>
                                    </p:anim>
                                    <p:anim calcmode="lin" valueType="num">
                                      <p:cBhvr additive="base">
                                        <p:cTn id="44" dur="500" fill="hold"/>
                                        <p:tgtEl>
                                          <p:spTgt spid="174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3" presetSubtype="10">
                                  <p:stCondLst>
                                    <p:cond delay="0"/>
                                  </p:stCondLst>
                                  <p:childTnLst>
                                    <p:animEffect filter="blinds(horizontal)" transition="out">
                                      <p:cBhvr additive="repl">
                                        <p:cTn id="48" dur="500"/>
                                        <p:tgtEl>
                                          <p:spTgt spid="1745"/>
                                        </p:tgtEl>
                                      </p:cBhvr>
                                    </p:animEffect>
                                    <p:set>
                                      <p:cBhvr>
                                        <p:cTn id="49" dur="1" fill="hold">
                                          <p:stCondLst>
                                            <p:cond delay="499"/>
                                          </p:stCondLst>
                                        </p:cTn>
                                        <p:tgtEl>
                                          <p:spTgt spid="17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mour User</cp:lastModifiedBy>
  <dcterms:modified xsi:type="dcterms:W3CDTF">2007-10-10T16:09:3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